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CF51-9CB9-4551-AD89-193696E35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CBAF-F298-412E-90FA-56835E49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7D0B-10AA-40A5-9A8A-6F8722CEA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2CB3-095C-4692-9EFF-74D6E1EEA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9E95-CAB7-4714-B2B3-6457C549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7DE2-3AE8-4610-8922-2F9D48FB8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7E95-C014-4245-993E-B8304C5F7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6D0C-5A2D-4FA4-BF57-68088C7B7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6CE8-0EF5-4F7C-BB0C-8C9286E1B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B3B0-065F-4EED-8DDB-BF0564CD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ADD3-ADA4-48D2-9078-8EBFFA35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8E38-6759-43A4-9BD9-B4FF95F5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114A-0471-47C8-84B3-4956F875508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81080" y="2209680"/>
            <a:ext cx="4711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Direc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of the Bia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70772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5438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162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3915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6964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3915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6201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467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467480" cy="39625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990720" y="4572000"/>
            <a:ext cx="739116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7407360" cy="2362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143000" y="2057400"/>
            <a:ext cx="76212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543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407360" cy="2362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38080" y="3733920"/>
            <a:ext cx="7391520" cy="1676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066680" y="1371600"/>
            <a:ext cx="6098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96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7543800" cy="3886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90720" y="4419720"/>
            <a:ext cx="75438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3915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7816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6960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315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78487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21T15:42:16Z</dcterms:modified>
  <cp:revision>211</cp:revision>
  <dc:subject/>
  <dc:title>Slide 1</dc:title>
</cp:coreProperties>
</file>